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97E0-834D-4177-89E0-112EC48ED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jax collaboration with dicthy and phenote-lite with kevin at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093EB-25BB-4395-B6DD-587F61C9D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71C19-C0F1-4487-A440-746C5C5BC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A5A89-40AD-43BA-810B-FCE03978D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C9C85-4AE5-4F66-9BFB-23CCABC33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74177-8107-4F09-911B-77BD8A4DB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2ECF6-523A-4B7F-8D32-5B1D63F1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4461A-4A20-4B29-8419-65BE34FEF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67D26-A879-4EE7-B42F-EDD7089C5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4808F-19E5-4908-8F79-F0D78C02A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054A-E95B-4491-887D-7D9285F9E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9CBC1-118B-4D64-99B2-BC90DED27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F8A4-E469-4F09-AC29-9F681E636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1B89-B34A-4578-A56D-2987C5EA08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ype 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Phenotype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additions</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write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Modifiers: radio buttons</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2"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re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6"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AJAX interface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that talks to FB app pro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 m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P - infer phenotypes from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 to OBD (zf &amp; fb) via pheno-x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5):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 sourcefor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 release s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Nicole Washington, ShengQiang Shu, Seth John Day-Richter, Nomi Harris</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otype(or taxon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etic context (optional)</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e.g. Anat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7-10T18:41:46Z</dcterms:modified>
  <cp:revision>123</cp:revision>
  <dc:subject/>
  <dc:title>Phenote</dc:title>
</cp:coreProperties>
</file>